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C05E-0063-455E-8AD2-E418FF134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4717-7F9A-48D8-825C-4126DC4A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87152E-E728-455F-BAF4-16816167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3A041D-F127-4EB0-988F-1C43F167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82C3BE-4C12-404E-A6ED-98CF10F8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0C688-CC8B-48EA-8F58-67BC3781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30E78-7879-4474-9EC5-D1EA4486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AC7C76-4276-48DE-B661-34C1F64E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1B4B87-9664-4988-B681-198ACA78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988D2-FAD3-433F-89C5-F83AED58B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34712-1667-4B21-9793-C067B5DEB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F933-B7D5-4E94-A1E6-B70EBF6A0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9694-40D5-4C07-9FB4-8BB1AE3B8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80CF-13B8-4DEC-8FCD-C56ED7DEA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4757-30E7-4F60-8CC5-9F30708F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46B2-C914-4183-8EAA-98C80488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63D5-6C12-43B0-B1A2-4B105BAC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E578-7C43-420B-A3B9-00F8ECAE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D5C1-6E29-464A-80B7-A0BCE39E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EE97-FE1D-4C82-B925-3125BA9E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DBD4-9635-401D-937F-48B2B8AF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BFA6-E6B8-47A9-9F0B-7C401378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88F6-28C6-4E77-9EDB-5D988913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6E34-CF4A-4CCB-9DEE-C996AFB7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263A-C400-4372-A763-FA7133A55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09E9-7942-4DAE-84F0-8D91124BD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6ABD7-B4E4-4A4A-9E2E-0532993F4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6B742-1785-422C-BF90-9896A0F7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5FF48-8EF7-4F5E-8957-4EDFEBA0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FEE99-E5F2-4B68-BCBF-CB790DD8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6E4DB-31B5-44BD-BC2D-FB8D9593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44D6-FF8E-4F57-95E2-F14D7E07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D06AC-C882-4379-AF2A-4EE2B9B1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29CDF-16C9-48AE-92C5-D4ACC3D2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A56A5-FB21-4BF5-915C-7E1B4634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0D2BD-7E28-4A9A-AA64-B8EAE0C8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6D474-6BA6-4785-A647-9C113D77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20D45-69CA-4B22-903E-C35DD0E70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8ECD9-5ED9-44DB-B1FA-957C11A2D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C4D3A-737A-4F62-A402-93A2CCC9D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77457-FC4A-40D3-8B58-21C6842B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41378-2897-4714-A654-862013F6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1635-CED5-4EE2-AE9C-678034FA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0FB64-406F-4FCA-A8F7-49543F53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71B70-1566-4DE7-B8E6-48DF0194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5B696-3B33-4D98-9BA7-DDF738E0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3A18C-5A91-4212-BFCF-E61FB333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C0120-2ED0-482F-814C-040E4D22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582B4-44E8-4924-B9E6-85FB5884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062DF-518F-420E-9955-823B9850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FB204-55CE-4D83-B513-CB5753139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9EEE3-6E15-41FB-A2D5-64579826D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5F4D6-C841-49C4-8D44-221CBFAB1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AB58-D159-4717-947B-6BB191A2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89EC0-78C5-47C9-BEF2-91974F64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35269-E8F7-4DB7-B609-1DACB803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83557-7FAB-4E00-81A5-13888D03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C08CA-91F6-4D74-B07E-8A870C30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422F6-5FE3-4609-974B-9B390A61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3568B-479E-4055-A9E1-5B4094F8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D6C64-0654-4983-ADBE-C94A7FDA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E9E08-B92F-4107-A8B1-39BE4516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BA79A-80A5-4779-8BA9-275BCD56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AACD3-CBE4-4370-8580-0D42D3F35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1B35-386D-4A2D-95BA-6D39DFE9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23733-DC79-4FC7-9BB8-6244913D3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6C53C-1BE6-4D99-8BF4-4CFAD401D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68A08-D912-4C51-9392-9473CB1A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83563-0A3B-4F3E-B5B6-A77E199E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CB1A3-18A1-41CF-AFFF-A5851899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D44A6-37ED-42E8-9899-575D989C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1DD6A-8108-428D-B03A-C2E8A3C4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F5FA2-F135-4F9D-BBA5-098FC3A9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6ED88-219A-4E2E-AFC7-9C7C9912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E728B-6F95-409B-8CE0-6E940BB7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27B9-5F08-485F-87DD-29DBB33D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D125A-FD59-4F64-8389-4651B17C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1C931-D4AC-4FAD-B034-FDC099E95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B182B-58F9-4B03-A08B-517E4F99D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9DBF6-2534-4A0D-8C92-BBF9DA0ED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50EB0-09BF-4E6C-BF33-B93DF908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65ABD-25D6-47C6-AE1F-95FFCEA3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F1EBC-E6AA-4F2A-B729-AA4C7DB9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A8A71-C482-46C7-9674-D680ADBC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53787-E12C-43E9-AFFA-0B13DE87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7CC17-914A-4B2B-84C1-34A105CC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3A7C-281B-4CCE-980E-0E6E2C52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3C53D-DC87-4192-B805-0085FEFA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218CB-B1B6-4701-872C-6EB59E73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F1E39-4B55-494B-9104-F7A6F3E5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F8B2A-11EB-4358-BCC0-A217C69A2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CFBDC-E681-4619-BA02-3A9AEF54A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2F2E7-5EBF-4AF1-AE8C-771280981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D0CE8-BEE3-40D5-8565-266628D1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2D9FF-425D-49F5-AE45-F68A8951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46B64-57F5-4F41-8BD3-AC37CFCF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99661-F12E-4FB0-AF65-B5930458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1810-F6FB-46EE-9EAB-1AF90A56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4B4ED-7F73-41EC-AA06-20BBAD77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951E2-2DB7-4252-ABDB-DB7739DE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09CF2-5468-472B-9807-3832188D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738D4-95CB-4438-A488-2E3A4145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C13A0-64D4-47B5-AF54-C1068914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389AA-E1F1-40DD-9BC6-1FADEE1CF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37630-014D-4BBF-95D3-9F95D8DD5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31A209-82F4-421B-90B3-10CCF262C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F199C-9987-4D8E-9619-69ACEB57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BE19C-7B34-4B99-8ECF-CE29E5A7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線接點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直線接點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EA5D-88FF-49A4-B524-6F4E00B9798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線接點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直線接點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直線接點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直線接點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線接點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直線接點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195B-35C1-4EBB-B31A-037F374C9D5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線接點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直線接點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直線接點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直線接點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直線接點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01" name="直線接點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9B12-C9A1-4030-9D93-4541DDEF7CF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線接點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45" name="直線接點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7775-F8E9-4B55-94D4-3C05CCF1AC1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線接點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189" name="直線接點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0EBA-0816-408C-A386-C50D28C1422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070D-7C65-4D96-AF85-94E17D51253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線接點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74" name="直線接點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18A4-7132-4F66-B436-CAC7708005A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1B1F-A921-4B22-AB2C-CB6214CA6FC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CE60-2A22-4D70-A782-B0CF2CF8F4D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標題 1" descr=""/>
          <p:cNvPicPr/>
          <p:nvPr/>
        </p:nvPicPr>
        <p:blipFill>
          <a:blip r:embed="rId2"/>
          <a:stretch/>
        </p:blipFill>
        <p:spPr>
          <a:xfrm>
            <a:off x="426960" y="262080"/>
            <a:ext cx="8431200" cy="14745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92200" y="1700280"/>
            <a:ext cx="7959600" cy="494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14440" indent="-514440">
              <a:lnSpc>
                <a:spcPts val="3197"/>
              </a:lnSpc>
              <a:spcAft>
                <a:spcPts val="601"/>
              </a:spcAft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Arial Unicode MS"/>
              </a:rPr>
              <a:t>當您有</a:t>
            </a:r>
            <a:r>
              <a:rPr b="0" lang="zh-TW" sz="2400" spc="-1" strike="noStrike">
                <a:solidFill>
                  <a:srgbClr val="ff0000"/>
                </a:solidFill>
                <a:latin typeface="微軟正黑體"/>
                <a:ea typeface="Arial Unicode MS"/>
              </a:rPr>
              <a:t>心理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Arial Unicode MS"/>
              </a:rPr>
              <a:t>、</a:t>
            </a:r>
            <a:r>
              <a:rPr b="0" lang="zh-TW" sz="2400" spc="-1" strike="noStrike">
                <a:solidFill>
                  <a:srgbClr val="ff0000"/>
                </a:solidFill>
                <a:latin typeface="微軟正黑體"/>
                <a:ea typeface="Arial Unicode MS"/>
              </a:rPr>
              <a:t>法律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Arial Unicode MS"/>
              </a:rPr>
              <a:t>、</a:t>
            </a:r>
            <a:r>
              <a:rPr b="0" lang="zh-TW" sz="2400" spc="-1" strike="noStrike">
                <a:solidFill>
                  <a:srgbClr val="ff0000"/>
                </a:solidFill>
                <a:latin typeface="微軟正黑體"/>
                <a:ea typeface="Arial Unicode MS"/>
              </a:rPr>
              <a:t>財務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Arial Unicode MS"/>
              </a:rPr>
              <a:t>、</a:t>
            </a:r>
            <a:r>
              <a:rPr b="0" lang="zh-TW" sz="2400" spc="-1" strike="noStrike">
                <a:solidFill>
                  <a:srgbClr val="ff0000"/>
                </a:solidFill>
                <a:latin typeface="微軟正黑體"/>
                <a:ea typeface="Arial Unicode MS"/>
              </a:rPr>
              <a:t>醫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Arial Unicode MS"/>
              </a:rPr>
              <a:t>、</a:t>
            </a:r>
            <a:r>
              <a:rPr b="0" lang="zh-TW" sz="2400" spc="-1" strike="noStrike">
                <a:solidFill>
                  <a:srgbClr val="ff0000"/>
                </a:solidFill>
                <a:latin typeface="微軟正黑體"/>
                <a:ea typeface="Arial Unicode MS"/>
              </a:rPr>
              <a:t>職涯發展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Arial Unicode MS"/>
              </a:rPr>
              <a:t>或</a:t>
            </a:r>
            <a:r>
              <a:rPr b="0" lang="zh-TW" sz="2400" spc="-1" strike="noStrike">
                <a:solidFill>
                  <a:srgbClr val="ff0000"/>
                </a:solidFill>
                <a:latin typeface="微軟正黑體"/>
                <a:ea typeface="Arial Unicode MS"/>
              </a:rPr>
              <a:t>管理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Arial Unicode MS"/>
              </a:rPr>
              <a:t>等問題時，即可尋求諮詢，由專業人員來協助您！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ts val="3197"/>
              </a:lnSpc>
              <a:spcAft>
                <a:spcPts val="601"/>
              </a:spcAft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Arial Unicode MS"/>
              </a:rPr>
              <a:t>每人每年可有</a:t>
            </a:r>
            <a:r>
              <a:rPr b="0" lang="en-US" sz="2400" spc="-1" strike="noStrike">
                <a:solidFill>
                  <a:srgbClr val="ff0000"/>
                </a:solidFill>
                <a:latin typeface="微軟正黑體"/>
                <a:ea typeface="Arial Unicode MS"/>
              </a:rPr>
              <a:t>4</a:t>
            </a:r>
            <a:r>
              <a:rPr b="0" lang="zh-TW" sz="2400" spc="-1" strike="noStrike">
                <a:solidFill>
                  <a:srgbClr val="ff0000"/>
                </a:solidFill>
                <a:latin typeface="微軟正黑體"/>
                <a:ea typeface="Arial Unicode MS"/>
              </a:rPr>
              <a:t>小時免費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Arial Unicode MS"/>
              </a:rPr>
              <a:t>諮詢服務。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ts val="3197"/>
              </a:lnSpc>
              <a:spcAft>
                <a:spcPts val="601"/>
              </a:spcAft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Arial Unicode MS"/>
              </a:rPr>
              <a:t>有保密措施嗎？有！</a:t>
            </a:r>
            <a:r>
              <a:rPr b="0" lang="zh-TW" sz="2400" spc="-1" strike="noStrike">
                <a:solidFill>
                  <a:srgbClr val="ff0000"/>
                </a:solidFill>
                <a:latin typeface="微軟正黑體"/>
                <a:ea typeface="Arial Unicode MS"/>
              </a:rPr>
              <a:t>全程保密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</a:rPr>
              <a:t>。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ts val="3197"/>
              </a:lnSpc>
              <a:spcAft>
                <a:spcPts val="601"/>
              </a:spcAft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Arial Unicode MS"/>
              </a:rPr>
              <a:t>本府諮詢地點？在本府行政大樓會談室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ts val="3197"/>
              </a:lnSpc>
              <a:spcAft>
                <a:spcPts val="601"/>
              </a:spcAft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Arial Unicode MS"/>
              </a:rPr>
              <a:t>申請方式：三擇一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914400" indent="-457200">
              <a:lnSpc>
                <a:spcPts val="3197"/>
              </a:lnSpc>
              <a:buClr>
                <a:srgbClr val="f0a22e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Arial Unicode MS"/>
              </a:rPr>
              <a:t>請洽人事室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914400" indent="-457200">
              <a:lnSpc>
                <a:spcPts val="3197"/>
              </a:lnSpc>
              <a:buClr>
                <a:srgbClr val="f0a22e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Arial Unicode MS"/>
              </a:rPr>
              <a:t>撥</a:t>
            </a:r>
            <a:r>
              <a:rPr b="0" lang="en-US" sz="2400" spc="-1" strike="noStrike">
                <a:solidFill>
                  <a:srgbClr val="000000"/>
                </a:solidFill>
                <a:latin typeface="微軟正黑體"/>
                <a:ea typeface="Arial Unicode MS"/>
              </a:rPr>
              <a:t>EAP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Arial Unicode MS"/>
              </a:rPr>
              <a:t>專線：</a:t>
            </a:r>
            <a:r>
              <a:rPr b="1" lang="en-US" sz="2400" spc="-1" strike="noStrike">
                <a:solidFill>
                  <a:srgbClr val="ff0000"/>
                </a:solidFill>
                <a:latin typeface="微軟正黑體"/>
                <a:ea typeface="Arial Unicode MS"/>
              </a:rPr>
              <a:t>2960-3456</a:t>
            </a:r>
            <a:r>
              <a:rPr b="1" lang="zh-TW" sz="2400" spc="-1" strike="noStrike">
                <a:solidFill>
                  <a:srgbClr val="ff0000"/>
                </a:solidFill>
                <a:latin typeface="微軟正黑體"/>
                <a:ea typeface="Arial Unicode MS"/>
              </a:rPr>
              <a:t>分機</a:t>
            </a:r>
            <a:r>
              <a:rPr b="1" lang="en-US" sz="2400" spc="-1" strike="noStrike">
                <a:solidFill>
                  <a:srgbClr val="ff0000"/>
                </a:solidFill>
                <a:latin typeface="微軟正黑體"/>
                <a:ea typeface="Arial Unicode MS"/>
              </a:rPr>
              <a:t>4316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914400" indent="-457200">
              <a:lnSpc>
                <a:spcPts val="3197"/>
              </a:lnSpc>
              <a:buClr>
                <a:srgbClr val="f0a22e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Arial Unicode MS"/>
              </a:rPr>
              <a:t>專用信箱：</a:t>
            </a:r>
            <a:r>
              <a:rPr b="1" lang="en-US" sz="2400" spc="-1" strike="noStrike">
                <a:solidFill>
                  <a:srgbClr val="ff0000"/>
                </a:solidFill>
                <a:latin typeface="微軟正黑體"/>
                <a:ea typeface="Arial Unicode MS"/>
              </a:rPr>
              <a:t>EAPS@ntpc.gov.tw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微軟正黑體"/>
              </a:rPr>
              <a:t>                                                                                    </a:t>
            </a:r>
            <a:r>
              <a:rPr b="0" lang="en-US" sz="2400" spc="-1" strike="noStrike">
                <a:solidFill>
                  <a:srgbClr val="7030a0"/>
                </a:solidFill>
                <a:latin typeface="微軟正黑體"/>
                <a:ea typeface="Arial Unicode MS"/>
              </a:rPr>
              <a:t>OOOOO</a:t>
            </a:r>
            <a:r>
              <a:rPr b="0" lang="zh-TW" sz="2400" spc="-1" strike="noStrike">
                <a:solidFill>
                  <a:srgbClr val="7030a0"/>
                </a:solidFill>
                <a:latin typeface="微軟正黑體"/>
                <a:ea typeface="Arial Unicode MS"/>
              </a:rPr>
              <a:t> </a:t>
            </a:r>
            <a:r>
              <a:rPr b="0" lang="zh-TW" sz="2400" spc="-1" strike="noStrike">
                <a:solidFill>
                  <a:srgbClr val="7030a0"/>
                </a:solidFill>
                <a:latin typeface="微軟正黑體"/>
                <a:ea typeface="Arial Unicode MS"/>
              </a:rPr>
              <a:t>人事室關心您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2:25:04Z</dcterms:created>
  <dc:creator>user</dc:creator>
  <dc:description/>
  <dc:language>en-US</dc:language>
  <cp:lastModifiedBy>李葉玫君</cp:lastModifiedBy>
  <dcterms:modified xsi:type="dcterms:W3CDTF">2022-05-20T03:34:15Z</dcterms:modified>
  <cp:revision>133</cp:revision>
  <dc:subject/>
  <dc:title>臺北縣政府  員工協助方案草案</dc:title>
</cp:coreProperties>
</file>