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069-54E9-4452-AA2E-DC347180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A8E-95F8-452C-9F27-A5DDAFEF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DB3BE-6D4B-465C-A50A-EF86659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19DA7-99D9-4A29-A1ED-F005013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9DCCE-CF97-4F44-8148-F53AAB46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9C7F-601F-4FBF-91AD-F058DB7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AFFA2-A9C7-4F4A-875D-BFC105B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E747-8106-4BC3-ABAD-D08D534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CD55-B709-4B38-A638-2C120FD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40257-7127-401F-A86A-638C38F1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95524-45C6-486C-BF9A-917AE1F6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82A-96AB-424E-9C38-FC68E6FE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F10-5FF2-45FE-931F-CB592915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584B-65E4-446B-A627-C1EF4F6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5B0-B193-4A65-9D21-1D55CF6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ED5E-ABD0-460B-9834-6B393F56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8A5-EECE-4C8D-B8FA-B4DB2DF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0E17-6E44-429D-827D-04DE381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31E-0FC0-4800-A755-F8EFBD8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814-6DF9-46BE-8D3C-2E53C6A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7E7-5378-47CD-BBEB-07BF51F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C132-8A73-4172-9693-6838452B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FE5F-FDC7-40E6-8E46-C8FD28A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36A-8AB6-4FEA-B0C5-844958F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8DF7-E725-46AF-B8EF-D2A3DA18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A9BB-5406-4D42-9F5D-1A777CED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0F52-EA1A-4902-BE28-56C29B31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D484-1190-4215-B363-D02C7D37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CAA6-9106-4B7D-AB06-3DF50EA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AB8D-F4D0-4AA6-B055-BC74A23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4B6C-FAB7-4DC4-BEC8-034B44AC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F5B-68D4-4319-9353-F0E03BF7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E9C8-5EC2-4105-BE6F-8E03EE0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6F37-1EB4-437E-A11A-5D62ECBF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2B81-E78B-4CD7-BE13-3620E68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3CEC-D232-4365-A8A3-6C259A9B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E905-58DC-4097-AAB5-CD45677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17C5-6C00-4137-90BB-2448B2FD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2A10-F278-40A1-92A2-4C4F43CC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16D4-0349-4F87-BAB3-25D556BE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C9F1-96E1-4188-AD65-CA8F7FF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0DEA-D877-4673-91FA-7E2D9039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C0A-3FE1-4F23-903B-E68D3CF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01D4-16C7-4382-A87A-D89642DF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052D-60AD-4A19-813A-6F4A48B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F036-3603-47AA-ACF9-2F14AF09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FA39-9910-40E8-984C-3696AEB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D08D-78C0-4282-A51A-959AD72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2EA4-DA7F-4B9B-9870-524F165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24F4-9E81-49B0-9630-61D0DA1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FA05-8B36-4AAA-BE24-904BE38D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C3AA-801D-4DD6-A37D-83D25BCF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1B49-9060-4E86-9B9A-8FE871C4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E0E-07CD-4BD5-8955-348D1ACA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5DDF-7FE5-4B40-86F0-2F00AAC7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6FF0-E49A-4DA8-9D60-6F4C95D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FF4F-A084-4D99-B419-5818E74F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FFF9-B95C-40B5-A162-8D33714D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F94D-8325-41F6-A7AE-662B071E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5250-67B2-48C5-A5E9-89E46AC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2219-C348-4ECC-BD89-18E5781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F269-6222-4535-AC77-38778797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0F9E-8500-42B9-8620-94B18F0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63E3-2687-4877-B281-1402CAF9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C7C-FB65-47F5-BB62-C426634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94B8-CA0B-4E21-884E-B9D5EE0C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00C6-BD31-40E0-A1F4-664F8908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4809-D4D4-4275-A31E-D5F51A1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81DC0-B1F0-4CEB-B963-7CC4D54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DDEA-92C4-44B9-BF25-2C6CF608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8D2DA-81F7-4FD4-98A7-F320045D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BDFC-CC95-4A7F-B564-C7480D76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C76A-5390-4078-AACE-4A41B6C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2D09-914D-4321-B7CE-5B299D1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26B4F-4EDA-4D8C-8206-67E7F8E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CEC-0076-4557-BBA3-0E2BD27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259BE-5E0B-4161-B3BC-2D951B1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DAC0-5C18-4D51-B0CC-BB22716C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9B99-2DB7-42CA-9CD4-A07E449A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A289C-CF1A-4437-B70E-1EBE99F7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6EA7-41F7-4BBF-B1AF-D04ACF5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9644-4821-48E2-B6A8-AF7ECBF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69DD-ACAD-41CE-B337-933DE955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05C6D-6D62-46CB-8035-EA572B5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F49E-3177-4038-ADD6-983EE58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AF9F-353B-4647-99DB-05D31AE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2DF-AA3C-4E3A-8FBF-466EB09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923A-17FD-432E-A4D1-A6E14DB1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D571-053D-4D3B-92CA-A85A33B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3695-BB39-4C60-B1E7-1BF5AF03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617BC-D561-4493-B94C-4DCCCEC4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0CEC-0B74-4469-9193-440F3FBF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9AE95-DCD6-4183-8176-7F47C14C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6C75-E7C2-4261-8C10-BB0FF19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1847-FFD3-43A8-866A-4E01002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BEDF-9AD9-433E-B306-FA11588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7DB5-9178-48F2-BF52-B1500E95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413-B45B-43B8-9091-6E1D11B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3478-3CC6-4594-9D71-BDA50E6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DB1B-5109-4F07-B862-A0CAB65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72D6-A015-4315-85E8-17FB1B5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AB62-977C-4051-B69B-1165D4DB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1DF4-F35E-473B-A744-113CFE48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A623-2775-410F-9C34-3B24E55B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0887-0175-4106-B197-6B50C921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4DBD-657F-4564-AE1C-E939D193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F361C-F16C-498F-86F0-F179A805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D98C9-5684-4524-9EE9-9CA6F1D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401-7A43-4838-A9B1-06AABCAA74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接點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F3C-6283-413B-8E14-C4DBD751B7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D7C-56CC-4870-B5A5-C3707894D10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接點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908-F8F3-487E-B58F-138F7684EA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接點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AA84-BDC2-4FB9-8E86-3E2DD5B0B9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796-DEBE-4204-AC37-45AC270244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接點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4D3-62F4-417E-A4D3-4DC2667140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3C6-4928-4BF6-AB67-9AEE043B848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C436-864D-4C87-9209-8216247BCD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標題 1" descr=""/>
          <p:cNvPicPr/>
          <p:nvPr/>
        </p:nvPicPr>
        <p:blipFill>
          <a:blip r:embed="rId2"/>
          <a:stretch/>
        </p:blipFill>
        <p:spPr>
          <a:xfrm>
            <a:off x="426960" y="262080"/>
            <a:ext cx="8431200" cy="1474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2200" y="1700280"/>
            <a:ext cx="7959600" cy="49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當您有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心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法律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財務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醫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職涯發展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或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管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等問題時，即可尋求諮詢，由專業人員來協助您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每人每年可有</a:t>
            </a: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小時免費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諮詢服務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有保密措施嗎？有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全程保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</a:rPr>
              <a:t>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本府諮詢地點？在本府行政大樓會談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申請方式：三擇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請洽人事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撥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EAP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線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2960-3456</a:t>
            </a:r>
            <a:r>
              <a:rPr b="1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分機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31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用信箱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EAPS@ntpc.gov.tw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微軟正黑體"/>
              </a:rPr>
              <a:t>                                                       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OOOOO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人事室關心您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2:25:04Z</dcterms:created>
  <dc:creator>user</dc:creator>
  <dc:description/>
  <dc:language>en-US</dc:language>
  <cp:lastModifiedBy>李葉玫君</cp:lastModifiedBy>
  <dcterms:modified xsi:type="dcterms:W3CDTF">2022-05-20T03:34:15Z</dcterms:modified>
  <cp:revision>133</cp:revision>
  <dc:subject/>
  <dc:title>臺北縣政府  員工協助方案草案</dc:title>
</cp:coreProperties>
</file>