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9F0F-917F-43D5-9C85-CF24F2B3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CC79-2871-4E61-B250-222B2789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0C4A2-89C9-4641-958A-B7D42AF7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9E52A-B3F6-44A7-861C-3D383FD6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8432E-EDF2-49B5-922C-61F133FB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4B7B0-7A5B-4DE9-9914-DB9F9892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477D2-F4BF-45E8-8C93-67C66C86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91290-83C0-4FA7-AB31-3C4D3775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9D9AB-771E-4EC0-9401-2209BCE5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171D8-D917-4399-A756-A8581DB4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2E575-2AF8-4D15-AE97-2E3DA2F8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45A2-A22F-4A4C-8169-27892004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4CD5-FAE1-4AB8-A824-25E15C15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3D45-927A-428B-B7B4-19EB1AF6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0CAE-DEED-4577-8FCD-41D8AC66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6BE0-A841-4CA6-A4BA-78B1D79E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B758-9EFE-434E-BC07-1530019F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2AE2-016E-4759-BD3A-0F548594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9FD0-9F8C-4747-A158-BBA2C883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D926-3B15-447A-9311-DC518FB3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2E8D-2560-490B-8EEC-0A9AE4C5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399A-53BE-4050-94DF-326DD633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E077-F9C8-4D53-873D-2EF9E0BF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4EC1-7746-462A-BF54-43DBAB28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3B03-E4EC-4630-A8D4-2EA25A35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2FF2-1175-449C-B83F-4FED2B37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EEE35-76B3-4F6A-BE44-22713E1F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52AA2-C00B-444F-B657-AA060214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A5A28-8C32-49D6-8FD4-BAC0F96D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84B59-EEE3-4AC2-BD50-4EC9AA6F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243A0-C10E-47BE-A6EF-DE88C95E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F115-5727-4406-97AE-363A0D92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4A1FA-1036-4E2A-A64A-2B61A3FA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C5D84-0E7C-4586-A86B-B078F819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73ADF-ECDC-4C37-B06F-A9EDBC7C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72D2D-27BA-4594-A88A-E8FC00EC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51BE7-2B71-43A1-B69C-4D026101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BA295-9446-495E-ACE5-EAC3960E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80C17-3A52-4ED4-8627-16AC21E3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48F39-B4E5-407B-8F4E-3D31AB18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16D6E-BA85-4A9F-A9FE-BCDB3B8C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805A8-F9A1-498F-86BC-3B3C4DD0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C260-D187-4D6E-9F40-9E968D02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E01FA-BFC6-46F9-BDB1-48A8D2DD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14E3A-4CAC-4A03-8532-BAFC766F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1864D-E0D0-4B8E-83FD-8EDF101B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FB4F1-F581-43E5-8087-5768C5C2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6C26F-C823-40E4-9C4C-020409DD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6E41F-1242-4EDA-B2F6-EEEA1A22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C7AB7-662A-4104-901F-9D28E3B8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312EF-3074-44A9-A48E-2F4CE9B6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18C7D-05DD-45F4-9AB5-775BF4DB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9902E-31D8-44D3-99A2-A8C9F5D3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CA96-919C-41C6-9088-82C4A3BD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80A71-AB9A-41BF-97C4-0392F106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61CBC-399E-427B-B008-F3FFB609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5372F-7015-4F18-9B5A-06A8DB1E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4C5AB-D45B-4A38-8294-9BEE93DA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48E2E-267E-464D-ACB8-BCFA043E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9207E-4DBE-455D-B59A-788B9352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AEEC1-7EF7-4651-A849-12EBA116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A3B10-B448-4BDC-8AB6-E86B5CE4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D3904-131A-4110-A37D-B2EBA5D5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4CB69-5F78-45D7-8324-36952351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45C9-8349-4D86-8FDB-B9F2361D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3889B-1DC2-47C6-9A57-72FAE0A6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7151A-C327-4AB7-AB7F-3F458E6C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850E4-155A-4F3E-9D92-6AEA0578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75706-5D1B-4206-98A1-6044D7B7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EAAAB-876E-4FB6-B78D-E20D7B75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3A9AB-39F3-4EE1-90FA-4A07EAC3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0B1A6-CDFB-4207-85FE-6E1DFB05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2C1AC-F71A-4D8F-8DFF-DFA02D41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EAF52-DF94-472E-8D39-F78434B6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DA1E2-4329-4565-B895-B67FA0F5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79B-0D72-44EF-8FB4-0015D3A8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10427-5AEA-4FC9-97E3-35841A38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61AD2-1D89-4EFF-B020-7C757ED7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F533B-ADC7-48FB-BD00-2AE591D4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E5B50-7E6A-4620-A0C3-5B37B655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CDC4D-234B-44A7-B37C-7D111249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212C6-D165-4C61-906B-8AB7B62E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00420-1C9A-4D03-9178-CA102B5D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FD650-81B9-482A-9A32-36266BF4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FE946-83A2-4D3A-BDC8-D211C4F4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D90A7-44F8-4A98-89B7-7F38CCBC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EADA-D591-4941-B82B-0F1E16EE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F8A07-D9F5-4399-B3CA-1242A658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9725F-5E7D-48E8-8AD1-6375AB5A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68540-54E7-4D45-A218-39FF80A9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0DA19-4C98-4204-A1B8-21B7AB3F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71220-BCEE-432D-AD3E-A51BE028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FD640-A161-402B-B9B4-940B9AE2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9BB76-85BE-4C82-920F-59F74C59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A9BCC-DF3C-4FAF-8C1F-F585495C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8DC99-32CC-4AD8-9675-CA8C95F3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1E33E-2249-4B95-93B9-973DCB6B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2C9B-1BAF-4938-83EF-10B67022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A925C-D5D8-457F-B39B-D537D1E8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2C2FB-83F1-495A-8C8C-FA961DE0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8491E-0704-451B-B1E3-75B99DC9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B56B9-C9B7-419B-8778-BC79195E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6DD6A-FEA0-4694-8B60-C7DE3CC9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820C0-6F37-4060-862C-9015182E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12E3C-1E0F-4AF8-8D36-7FFE992B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39894-8C6E-47DD-8516-25CF7549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3FEDE-B9C1-4D3A-96A6-80154D0C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53EFB-DF74-43E2-9646-68D61419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線接點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直線接點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A106-9452-4851-9311-D548E23CE0E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線接點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直線接點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直線接點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直線接點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線接點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直線接點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9285-F6CC-4B87-B011-05F7EC17730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線接點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直線接點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直線接點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直線接點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直線接點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直線接點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4B58-A14C-43E6-A67D-2D0EB640953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線接點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直線接點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8916-9634-43D6-94C6-B496C0CC076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線接點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直線接點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CBD0-0938-40F1-80FF-78384837DAE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400E-F8B6-412A-8386-7D434E25798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線接點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直線接點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5FD2-B404-4C40-AF12-5EEC9A3E33C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A941-4F03-4F90-BAD3-F022F5BE1C5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E75F-2DCC-444E-B2BF-35DF03B7BE7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標題 1" descr=""/>
          <p:cNvPicPr/>
          <p:nvPr/>
        </p:nvPicPr>
        <p:blipFill>
          <a:blip r:embed="rId2"/>
          <a:stretch/>
        </p:blipFill>
        <p:spPr>
          <a:xfrm>
            <a:off x="426960" y="262080"/>
            <a:ext cx="8431200" cy="14745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92200" y="1700280"/>
            <a:ext cx="7959600" cy="494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14440" indent="-514440">
              <a:lnSpc>
                <a:spcPts val="3197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當您有</a:t>
            </a:r>
            <a:r>
              <a:rPr b="0" lang="zh-TW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心理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、</a:t>
            </a:r>
            <a:r>
              <a:rPr b="0" lang="zh-TW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法律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、</a:t>
            </a:r>
            <a:r>
              <a:rPr b="0" lang="zh-TW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財務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、</a:t>
            </a:r>
            <a:r>
              <a:rPr b="0" lang="zh-TW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醫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、</a:t>
            </a:r>
            <a:r>
              <a:rPr b="0" lang="zh-TW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職涯發展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或</a:t>
            </a:r>
            <a:r>
              <a:rPr b="0" lang="zh-TW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管理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等問題時，即可尋求諮詢，由專業人員來協助您！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ts val="3197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每人每年可有</a:t>
            </a:r>
            <a:r>
              <a:rPr b="0" lang="en-US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4</a:t>
            </a:r>
            <a:r>
              <a:rPr b="0" lang="zh-TW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小時免費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諮詢服務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ts val="3197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有保密措施嗎？有！</a:t>
            </a:r>
            <a:r>
              <a:rPr b="0" lang="zh-TW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全程保密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</a:rPr>
              <a:t>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ts val="3197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本府諮詢地點？在本府行政大樓會談室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ts val="3197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申請方式：三擇一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914400" indent="-457200">
              <a:lnSpc>
                <a:spcPts val="3197"/>
              </a:lnSpc>
              <a:buClr>
                <a:srgbClr val="f0a22e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請洽人事室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914400" indent="-457200">
              <a:lnSpc>
                <a:spcPts val="3197"/>
              </a:lnSpc>
              <a:buClr>
                <a:srgbClr val="f0a22e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撥</a:t>
            </a:r>
            <a:r>
              <a:rPr b="0" lang="en-US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EAP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專線：</a:t>
            </a:r>
            <a:r>
              <a:rPr b="1" lang="en-US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2960-3456</a:t>
            </a:r>
            <a:r>
              <a:rPr b="1" lang="zh-TW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分機</a:t>
            </a:r>
            <a:r>
              <a:rPr b="1" lang="en-US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4316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914400" indent="-457200">
              <a:lnSpc>
                <a:spcPts val="3197"/>
              </a:lnSpc>
              <a:buClr>
                <a:srgbClr val="f0a22e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Arial Unicode MS"/>
              </a:rPr>
              <a:t>專用信箱：</a:t>
            </a:r>
            <a:r>
              <a:rPr b="1" lang="en-US" sz="2400" spc="-1" strike="noStrike">
                <a:solidFill>
                  <a:srgbClr val="ff0000"/>
                </a:solidFill>
                <a:latin typeface="微軟正黑體"/>
                <a:ea typeface="Arial Unicode MS"/>
              </a:rPr>
              <a:t>EAPS@ntpc.gov.tw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微軟正黑體"/>
              </a:rPr>
              <a:t>                                                                                    </a:t>
            </a:r>
            <a:r>
              <a:rPr b="0" lang="en-US" sz="2400" spc="-1" strike="noStrike">
                <a:solidFill>
                  <a:srgbClr val="7030a0"/>
                </a:solidFill>
                <a:latin typeface="微軟正黑體"/>
                <a:ea typeface="Arial Unicode MS"/>
              </a:rPr>
              <a:t>OOOOO</a:t>
            </a:r>
            <a:r>
              <a:rPr b="0" lang="zh-TW" sz="2400" spc="-1" strike="noStrike">
                <a:solidFill>
                  <a:srgbClr val="7030a0"/>
                </a:solidFill>
                <a:latin typeface="微軟正黑體"/>
                <a:ea typeface="Arial Unicode MS"/>
              </a:rPr>
              <a:t> </a:t>
            </a:r>
            <a:r>
              <a:rPr b="0" lang="zh-TW" sz="2400" spc="-1" strike="noStrike">
                <a:solidFill>
                  <a:srgbClr val="7030a0"/>
                </a:solidFill>
                <a:latin typeface="微軟正黑體"/>
                <a:ea typeface="Arial Unicode MS"/>
              </a:rPr>
              <a:t>人事室關心您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2:25:04Z</dcterms:created>
  <dc:creator>user</dc:creator>
  <dc:description/>
  <dc:language>en-US</dc:language>
  <cp:lastModifiedBy>李葉玫君</cp:lastModifiedBy>
  <dcterms:modified xsi:type="dcterms:W3CDTF">2022-05-20T03:34:15Z</dcterms:modified>
  <cp:revision>133</cp:revision>
  <dc:subject/>
  <dc:title>臺北縣政府  員工協助方案草案</dc:title>
</cp:coreProperties>
</file>